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ct" ContentType="image/x-pict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EB6-BFE0-4D66-99FA-06289BFB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29E-7CCE-411D-A156-8C2FC2B4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461-8019-468D-850F-AD091F56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3A8-BFE8-498C-BE86-11BF3282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90FE-0AE4-43BA-86A3-04D9EF28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60D2-802A-45B8-8914-98C2AF73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464E-E8F9-4005-8E41-D37C3110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CD0-AEFA-43A6-857D-6C884CE1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D93E-13E7-4A07-A572-BDE82A28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1F3A-4EAB-47D8-A23C-01FAAEFA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7ED5-47DE-4F54-A0AC-E6B5143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838-EC84-4B77-B7CD-C9D811CD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0551-3606-4C8B-937E-F4E9FCA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9B9A-73C4-4E46-8045-49C60112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D353-21A5-4CC8-9605-A04FE45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4238-2DE5-4D0E-AA0D-37ADC7EE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CD07-6D72-4ED7-BD5F-8C441C7A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203-EB9A-4257-A1D0-1727864B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C27-B23F-4634-98BB-8EA3F0FA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0AE-82EE-4271-9E6E-FA33D09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730-90E2-4C35-8AAD-64F86F07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30C-7CDE-420F-9A09-240B313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50E-6B94-4EB1-8C73-EB4033CB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9DF-64F5-4FD1-B7F6-1556422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6966-642A-429C-96CB-C5F76F402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D789-C93B-4270-BF70-C0E2D3594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2720" y="1980720"/>
            <a:ext cx="42912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First things to do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17528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e9090"/>
                </a:solidFill>
                <a:latin typeface="Arial"/>
              </a:rPr>
              <a:t>Decide To Act</a:t>
            </a:r>
            <a:endParaRPr b="0" lang="en-US" sz="38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Don’t be afraid to help emergency victims for fear of trying and failing or being sued by the victims fami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The Good Samaritan Law says that anyone who tries to help in an emergency situation cannot be sued unless he or she knowingly acted unsafe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Be smart in deciding how to help the person. Do not endanger more people than the person who is already in dan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81280" y="4183200"/>
            <a:ext cx="365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ll for help!!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the police department, the fire department, or Emergency Medical Services (EMS). EMS can be summoned by dialing either 911, 0 or a direct numb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emergency operator with all the necessary information, such as street address, nature of the emergency, and your n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87624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Provide Care Until Help arrives </a:t>
            </a:r>
            <a:endParaRPr b="0" lang="en-US" sz="36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person only if he or she is not safe. If there is danger of traffic or an explosion, you can move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hould not move them if they have a broken bone, or there is damage to the head, neck, or sp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victim gently, supporting the spine to minimize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When Rescue Breathing Is Needed</a:t>
            </a:r>
            <a:endParaRPr b="0" lang="en-US" sz="36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victim has stopped breathing but has a pulse, you can use rescue brea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cue Breat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s a substitute for normal breathing in which someone forces air into the victims lu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6095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8:38Z</dcterms:created>
  <dc:creator>Kraybill Campus LMS</dc:creator>
  <dc:description/>
  <dc:language>en-US</dc:language>
  <cp:lastModifiedBy>Kraybill Campus LMS</cp:lastModifiedBy>
  <dcterms:modified xsi:type="dcterms:W3CDTF">2011-05-26T16:08:44Z</dcterms:modified>
  <cp:revision>6</cp:revision>
  <dc:subject/>
  <dc:title>First things to do</dc:title>
</cp:coreProperties>
</file>